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E75F-12DD-415E-B51B-EC4DBCC1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290D-1201-435D-B4CE-0786C8756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E609-DD4A-4FA6-B8A7-7C2F2B724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D401-1B78-45C6-AA07-F2A0A37AB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EE2-BB5A-4546-9995-080FBA74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A02-A466-4CFA-9678-52252F32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E1C-9135-4905-8D15-7A682A66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4A6-FDB4-49DB-A85B-C81D6FB9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E92-89B8-4B9B-BB9C-59DC368B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BF1-35F4-4192-927C-92065204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3D6-46AC-4027-AAA7-0A76A9B3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5ED-4ECB-422E-B33A-8F498804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ACC-7D44-4EF5-8D70-C4B5F7B6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F1F-34F6-4EB6-B4F5-766B6D06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D69-E370-4A9C-9E5F-C12FD42D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A75-E1F8-4306-8BB4-9F62FC44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8FE1-0F5B-4E9D-908F-AC93A7C77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8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9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0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1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2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3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4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Mary Beverly</cp:lastModifiedBy>
  <dcterms:modified xsi:type="dcterms:W3CDTF">2014-09-12T14:47:59Z</dcterms:modified>
  <cp:revision>19</cp:revision>
  <dc:subject/>
  <dc:title>Profile</dc:title>
</cp:coreProperties>
</file>